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B732-CF7D-41E7-B63B-3D7FA0FD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A1B8-0473-4BC3-A95A-77B09227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788B-288D-45E4-8A2E-56EA6497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2CAF-DFD4-4129-BF85-6B5DA3C8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41CC-161F-4458-9EB2-B1A0BD50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5969-C480-4818-9F50-1812E238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2999-AE12-4259-AEAF-F81E50CC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EBAE-CC92-4D9A-828B-AA366760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E031-A396-45E3-A166-378F2F0F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0894-2A5A-431E-9202-B6C83E4B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794C-2C14-4F04-BF3E-2170BBFA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A599-C512-4D65-9AE4-3B42C7A4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E0A8-2A48-4F79-897D-9AF2A1254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28800"/>
            <a:ext cx="69343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33520"/>
            <a:ext cx="693432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657600"/>
            <a:ext cx="69343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52560" y="53352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onction princip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0320" y="1828800"/>
            <a:ext cx="20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onction(s) secondaire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5280" y="3657600"/>
            <a:ext cx="171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onction(s) d’es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ALYSE FONCTIONNELLE – RIS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952880"/>
            <a:ext cx="69343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ntraintes inter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867280"/>
            <a:ext cx="69343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ntraintes exter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533520"/>
            <a:ext cx="289584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18288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3657600"/>
            <a:ext cx="289584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952880"/>
            <a:ext cx="28958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5867280"/>
            <a:ext cx="28958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85440" y="53352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85440" y="182880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85440" y="495288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85440" y="365760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5440" y="586728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32:50Z</dcterms:modified>
  <cp:revision>71</cp:revision>
  <dc:subject/>
  <dc:title>Contrôle interne des risques</dc:title>
</cp:coreProperties>
</file>